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42.xml" ContentType="application/vnd.openxmlformats-officedocument.presentationml.slide+xml"/>
  <Override PartName="/ppt/slides/slide4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B126-68B2-4F16-A714-7D6007D0B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B1652-4EEA-4B8D-9EA4-175A5A26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B0E8E-C792-4AE1-ABA1-C3E28C39C6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2B17A-EB9E-484A-8DC2-E16D4A54F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16E8E-3DC3-4A34-A43A-299ED18FC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F75DC-59C8-4753-8599-3B61BC626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036BC-CB7A-4F03-8713-29AF97F2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C5BDD-7817-47B7-8F92-B54BF39F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DFDE-651D-4641-A7D2-6C321C69D4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0B6489-8556-43FB-BF90-ABE549807C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20F3E-60B6-4F63-AC2F-5D9087FC1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3252-FF98-48D8-985E-5C12BFD60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C734D-BD00-4D37-849A-7F7F4E9ED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1F0BB-D5FF-4FEF-9368-F1DFD0470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5F0EA-BA95-42D6-BE91-9F11E73C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5B309-4996-4666-A2BC-369E052F3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43AD9A-FC5B-49EF-A130-3FA0E57E7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48E89-B554-4A94-A4EE-841180941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807D1-6F39-4495-8B34-18A3E7D6F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A01EC-468D-4C96-AF5C-055E06961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51D-11D7-472C-8475-BBA0890C6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89AD1-2D8F-4AE5-8429-A92668A4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19FB-64AD-4C03-99F0-FEE76A885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061E-1E00-4C37-80FC-4877F3D57E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87C42-0F5C-4A45-A309-36096AF489E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A8146-0E04-42A8-83F7-7BADE21CF58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4000" y="907920"/>
            <a:ext cx="836280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Адаптационные изменения при физиологической беременност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Частота сердечных сокращений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о время беременности наблюдается физиологическая тахикард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ЧСС достигает максимума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беременности и составляет 80-95уд/мин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87280" y="260280"/>
            <a:ext cx="7793280" cy="120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Минутный объем сердца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сердца во время беременн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30-50%, достигая максимума на 25—30-й неделе беременности, затем постепенно уменьшается—и  ко времени родов возвращается к исходно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О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на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-45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max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26-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9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30-й нед повышение МОС прекращается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 38—40-й неделе он возвращается к исходному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Работа левого желудочк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50%,достигая максимума в 29-32 нед,  затем работа левого желудочка постепенно снижается и 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риместре превышает исходную величину (у небеременных)  на 10%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95280" y="620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Нагрузка на сердце у беременных повышается не только в результате увеличения сердечного выброса, массы циркулирующей крови, общей массы, но и вследствие некоторого смещения сердца, повышения внутрибрюшного давления и более высокого стояния диафрагмы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ускультац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олический шум на верхушке у 50% беременных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истолический шум на  легочной артерии  у 10%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силение и  расщепл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н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кцент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она на легочной артер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ЭКГ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ктрическая ось сердца отклоняется влево приблизительно на 15°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зможен ряд изменений на ЭКГ: укорочение интервал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Р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—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зменения комплекс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QRS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виде увеличения амплитуды зубц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R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 отведения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4) и некоторого увеличения зубца 5 (в отведения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); иногда бывают инверсия зубца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Т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 отведениях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V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з)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 снижение сегмента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ST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ти отклонения связывают с изменением позиции сердца и его поперечным поворотом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зультате поднятия диафраг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гут нарушаться возбудимость и проводимость сер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чной мышцы, в результате чего возникают аритми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Эхокардиография, рентгенография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о время беременности увеличивается масса миокарда и размеры различных отделов сердца ( увеличиваются левое предсердие и левый желудочек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и рентгенологическом исследовании выявляется изменение контура сердца, напоминающее митральную конфигураци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Гемодинамические изменения в родах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Во время схваток и особенно потуг АД повышается, АД снижается после разрыва плодного пузыря и рождения ребенк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 большинства рожениц схватки сопровождаются тахикардией, у 25% наблюдается брадикардия, может возникать неполная и полная атриовентрикулярная блокада, экстрасистол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Эти отклонения объясняются повышением возбудимости проводящей системы сердца из-за высокого содержания в крови стероидных гормонов и увеличения выброса в кровь ацетилхолина во время сокращения матки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68360" y="-115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68360" y="907560"/>
            <a:ext cx="8229600" cy="56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о время каждой схватки МОС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на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20—30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%,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ударный объем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&gt;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а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0-5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л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бота левого желудочка в схватку в первом периоде родов нарастает на 37,8% по сравнению с концом беременности, во втором периоде родов — на 92,8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я благополучного исхода родов большое значение имеет</a:t>
            </a:r>
            <a:r>
              <a:rPr b="0" lang="ru-RU" sz="2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ункциональное состояние правых отделов сердца, особенно правого_ предсердия, так как на него ложится наибольшая нагрузка— прием и перекачивание в желудочек крови из огромного резервуара, каким является матка в последовом периоде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(800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л кров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27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коллоидно-осмотического состояни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2204640"/>
            <a:ext cx="777240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моляльность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10мосм/кг воды к 20-22нед (вне беременности 291мосм/кг воды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держание натрия, калия, хлора, магния, кальция, фосфата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лоидно-онкотическое давление (КОД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24 мм рт с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max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в 30-34 нед (у небеременных составляет – 26-28 мм рт ст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люкоза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.2-3.8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моль/л (вне беременности 4,5-5,0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чевин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о 4,3-4,0ммоль/л (вне беременности – 4,5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иперлипидемия до 1,0г/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ле родов КОД снижается еще больше, что особенно опасно при терапии кристаллоидами вследствие развития интерстициального отека легких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функции внешнего дыхания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ребление кислорода к концу беременности увеличивается на 30-40%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Сопротивление дыхательных путей снижается в 1,5ра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следствие ограничения экскурсии диафрагмы во время беременности увеличивается частота дыхания ( на 10%)  и дыхательный объем (на 30-40%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итоге минутный объем дыхания повышается с 8,4л/мин до 11,1/мин. Увеличение дыхательного объема происходит за счет снижения резервного объема выхода. ЖЕЛ остается прежн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147160" cy="538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ahoma"/>
              </a:rPr>
              <a:t>Нормой беременности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следует считать среднестатистические показатели гомеостаза и функциональных тестов, характерных для неосложненного течения беременности у практически здоровых женщин.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аждому триместру беременности характерны свои нормы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гемостаза</a:t>
            </a: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Гемостаз зависит от состояния сосудистой стенки, тромбоцитов, факторов свертывания и фибринолиза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зменения количества, функции и длительности жизни  тромбоцитов у беременных не выявлено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мечается повышенная активность факторов свертывания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акторов) с 3ме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фибриногена повышаетс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Фибринолитическая активность плазмы снижается во время беременности, становится наименьшей  в период родов  и возвращается  к исходному через 1 час после рождения плацент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лацента содержит ингибиторы, блокирующие фибринолиз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лияние беременности на функцию почек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отмечается увеличение скорости почечного кровотока и гломерулярной фильтрации, осмотического клиренса с 500 до 700 мл/мин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жедневно фильтруется почти 100л жидко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 результате повышенной гломерулярной фильтрации и увеличенного объема плазмы уровень креатинина в сыворотке крови снижен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нцентрация мочевой кислоты в сыворотке снижена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возможно появление ортостатической  протеинурии у 20% беременны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ругими физиологическими изменениями при беременности могут быть глюкозурия (до 140мг/сутки) и лактозури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о время беременности увеличивается емкость мочевых путей, создаются условия для застоя и инфицирования моч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-46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69192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триместре беременности примерно у 60% женщин создаются условия для возникновения патологических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ефлюкс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в связи с нарушением нервно-мышечного тонуса мочеточникового устья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о время беременности имеется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потония, гипокинезия, дискинез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чевых путей вследствие изменения гормонального баланса в организме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ысокий уровень прогестерона усиливает активность бета-рецепторов, вызывая гипотонию и дискенезию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ысокий уровень эстрогенов, снижая альфа-рецепторную зависимость приводит к тем же нарушения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Вследствие тесной нейрогенной связи верхних отделов мочевыводящих путей с сосудами почек возникшие динамические нарушения влекут за собой гемодинамические изменения в почке. Снижение тонуса почечных вен приводит к одновременному спазму артерий, что приводит к гипоксии и еще сильнее усугубляет расстройства уродинамик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Емкость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мочевого пузыря  и внутрипузырное давление не меняютс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лияние беременности на функцию печен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Гистологически выявлено увеличение содержания гликогена и жировых отложений в клетках печен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ровень белка в сыворотке крови снижается, к родам он может достигать 60г/л имеется снижение уровня альбуминов и увеличения альфа-и-бетта – глобулинов. Результатом изменений в составе белков сыворотки является увеличение СОЭ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оценке б/х состава плазмы наиболее характерно увеличение щелочной фостфатазы  (с 26 до 75 МЕ против 25 МЕ у небеременных), прямого билирубина (до 0,5-3,0 ммоль/л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Анатомия женских половых органов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Женская половая система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кладывается из парных яичников и маточных труб, матки, влагалища, наружных половых органов, а также молочных желёз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Функция 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женской половой системы — </a:t>
            </a: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репродуктивна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Яичник — герминатив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овогенез, овуляция) 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ндокрин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синтез и секреция эстрогенов и прогестерона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очная труба — транспортна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продвижение овулировавшей яйцеклетки в полость матки, оплодотворение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атка — вынашивание плод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анал шейки матк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лагалище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родовые пу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олочная железа — вскармливание ребёнк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вариально менструальный цикл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12640" y="1773000"/>
            <a:ext cx="863136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вариальный ци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продолжение овогенеза (фазы роста и созревания фолликула), овуляция, формирование жёлтого тела. Овариальный цикл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регулиру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ипофизарные гонадотропи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фолликулостимулирующи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ФСГ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лютеинизируюший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(ЛГ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мон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Менструальный цикл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характерные изменения слизистой оболочки матки, имеющие целью возможность имплантации и без наступления последней заканчивающиеся отторжением части эндометрия (менструация). Все фазы менструального цикла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контролируют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ормоны яичника —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строге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рогестерон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ругие органы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истемы (маточные трубы, канал шейки матки, влагалище, молочные железы) также подвергаются изменениям в рамках овариального цикл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ahoma"/>
              </a:rPr>
              <a:t>Наружные половые органы: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лобок, большие и малые половые губы, клитор, преддверие влагалища и промежность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2017800"/>
            <a:ext cx="8486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Лобок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ли лонный бугор 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ons pubis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mons veneris</a:t>
            </a: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—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реугольная площадка нижней части передней брюшной стенки с хорошо развитой жировой клетчаткой и оволосением по женскому типу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640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ольшие половые губы 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labia majora pudend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— две кожные складки по боковым сторонам половой щели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rima pudend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толще губ расположены венозные сплетения, жировая клетчатка и большие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бартолиновы)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железы преддверия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landulae vestibulares majores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glandulae vestibulares Bartholini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переди большие половые губы соединены спайкой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isura labiorum anterior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)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зади на границе с промежностью большие половые губы сливаются, образуя заднюю спайку (</a:t>
            </a:r>
            <a:r>
              <a:rPr b="1" i="1" lang="en-US" sz="2400" spc="-1" strike="noStrike">
                <a:solidFill>
                  <a:srgbClr val="000000"/>
                </a:solidFill>
                <a:latin typeface="Tahoma"/>
              </a:rPr>
              <a:t>commisura labiorum posterior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 разведении губ задняя спайка напрягается, и становится видна тонкая поперечная складка — уздечка 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enulum labiorum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кзади от неё расположено углубление — ладьевидная ям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ossa navicularis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Малые половые губы 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labia minora pudendi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ередний край каждой малой половой губы расщепляется спереди на две ножки. Передние ножки обеих малых губ сливаются над клитором, образуя его крайнюю плоть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eputium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задние ножки соединяются под клитором, образуя уздечку клитор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frenulum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даптация сердечно-сосудистой системы при беременност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Гиперволемическая аутогемодилюц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величение сердечного выброс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частоты сердечных сокращен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венозного давлени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ОПС сосуд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333399"/>
                </a:solidFill>
                <a:latin typeface="Tahoma"/>
              </a:rPr>
              <a:t>.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Клитор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с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lit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о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r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стоит из двух пещеристых тел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rpora cavernosa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ращённых с помощью ножек с нисходящими ветвями лобковых костей. Сходясь у нижнего края лонного сочленения, ножки образуют тело клитора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corpus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,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меющее округлую форму и заканчивающееся снаружи головкой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glans ditoridis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еддверие влагалища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vestibulum vaginae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68360" y="2017440"/>
            <a:ext cx="8486640" cy="450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странство, ограниченное сверху клитором, снизу и сзади — задней спайкой больших половых губ, с боков — малыми половыми губами; дно преддверия влагалища образует девственная плева. С преддверием сообщаются влагалище, наружное отверстие мочеиспускательного канала и выводные протоки парауретральных (малых)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бартолиновых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(больших) желёз. Девственная плева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hymen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сположена на границе между преддверием влагалища и влагалище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Промежность 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(</a:t>
            </a:r>
            <a:r>
              <a:rPr b="0" i="1" lang="en-US" sz="4400" spc="-1" strike="noStrike">
                <a:solidFill>
                  <a:srgbClr val="333399"/>
                </a:solidFill>
                <a:latin typeface="Tahoma"/>
              </a:rPr>
              <a:t>perineum</a:t>
            </a:r>
            <a:r>
              <a:rPr b="0" i="1" lang="ru-RU" sz="44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ожно-мышечно-фасциальная пластинка, расположенная между задней спайкой больших половых губ и копчиком. Фасции и мышцы промежности составляют тазовое дн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68000" y="214200"/>
            <a:ext cx="84754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нутренние половые органы: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влагалище, матка и придатки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Влагалищ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vagina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— растяжимый фиброзно-мышечный орган длиной 7-9 см, начинающийся от входа во влагалищ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introitus vaginae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оканчивающийся сводом влагалища. Стенка влагалища состоит из трёх оболочек (слизистая, мышечная, адвентициальная)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703440" y="188640"/>
            <a:ext cx="844056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лагалище.Слизистая оболочка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ногослойный плоский эпителий и собственный сл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94920" y="2017800"/>
            <a:ext cx="8559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пителий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ногослойный плоский эпителий изнутри кнаружи состоит из базальных, промежуточных и поверхностных клеток. Эпителий подвергается частичному ороговению (поверхностные клетки содержат гранулы кератогиалина). В пролиферативную фазу менструального цикла в эпителии накапливается значительное количество гликогена. Гликоген используется влагалищной микрофлорой, а образующаяся при этом молочная кислота препятствует размножению патогенных микроорганизмов.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Влагалищный мазок.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зависимости от фазы менструального цикла в мазке преобладают разные эпителиальные клетки: базальные, парабазальные, промежуточные, ладьевидные, поверхностные, ороговевающи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11280" y="260280"/>
            <a:ext cx="8332560" cy="172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Влагалище.Слизистая оболочка:</a:t>
            </a:r>
            <a:br>
              <a:rPr sz="3600"/>
            </a:b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многослойный плоский эпителий и собственный слой.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Собственный слой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волокнистой соединительной ткани собственного слоя присутствуют лимфоциты, зернистые лейкоциты, иногда обнаруживаются лимфатические фолликулы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11280" y="214200"/>
            <a:ext cx="833256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лагалище. </a:t>
            </a:r>
            <a:br>
              <a:rPr sz="4000"/>
            </a:b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Строение стенки влагалищ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ышечная оболоч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остоит из двух слоев ГМК. Внутренний (тонкий) слой содержит ГМК с циркулярной ориентацией. Наружный (толстый) слой образован продольными пучками ГМК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Адвентициальная оболочка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разована волокнистой соединительной тканью и соединяет влагалище с окружающими структур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Матка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Мат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представляет собой полый гладкомышечный орган грушевидной формы, уплощенный в переднее-заднем направлени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Длина матки у нерожавших – 7-8см, у рожавших – 8-9 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Ширина – 4-5см в области дна, передне-задний размер – 2,5см, толщина мышечной стенки – 1,2см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асса матки – от 30 до 100г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0" y="0"/>
            <a:ext cx="8748720" cy="662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50720" y="-73188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94920" y="836640"/>
            <a:ext cx="855972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атка состоит из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тела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шей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, между которыми выделяется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перешеек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 В норме тело матки и шейка находятся под углом открытым кпереди. В теле выделяют дно, переднюю, заднюю стенки, правое и левое ребра. Шейка матки обычно длиной 3 см имеет коническую форму и нерожавших и цилиндрическую – у рожавших женщин. Шейка делится на надвлагалищную и влагалищную част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лость матки имеет форму треугольной щели, длина которой – 7-8см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Физиологическая гиперволемия беременных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ЦК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25-48%  с 12нед и  до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30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6не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ъем плазм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50% 3900-4000мл (26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не беременности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Объем эритроцитов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18% (при приеме железа – на 32%) и достигает 1650мл (у небеременной 1400м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щий объем внеклеточной жидкости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gt;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20%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на 6,5 л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. Определенную роль в этой задержке жидкости играет альдостерон, секреция которого возрастает с 12-й не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иближается к первоначальному уровню спустя 2 нед после родов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13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Строение стенки матк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нка матки представлена 3 слоями: 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внутрен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эндометрий (однослойный цилиндрический эпителий, преврвщающийся во время беременности в децидуальную оболочку),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сред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миометрий, который представлен сплетением обильно кровоснабженных пучков гладкой мускулатуры,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наружны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серозный (периметрий)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333399"/>
                </a:solidFill>
                <a:latin typeface="Tahoma"/>
              </a:rPr>
              <a:t>Строение стенки матки:миометрий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23640" y="2017800"/>
            <a:ext cx="8631000" cy="457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иометрии различаю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наружный сло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продольное направление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), сред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с циркуляторным и косым направлением волокон),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нутренний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– с продольным расположением волокон. Продольные пучки гладко-мышечных клеток наиболее выражены в дне и теле матки. Поперечно-расположенные пучки в дне матки представлены тонким слоем, толщина их значительно увеличивается в нижнем сегменте и шейке, области наружного и внутреннего зева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332560" cy="170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Маточные трубы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 (10-12см):   интерстициальная, перешеечная,   ампулярная, фимбриальная части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>
            <a:lum contrast="6000"/>
          </a:blip>
          <a:srcRect l="-953" t="-5" r="5743" b="0"/>
          <a:stretch/>
        </p:blipFill>
        <p:spPr>
          <a:xfrm>
            <a:off x="2050920" y="1773360"/>
            <a:ext cx="6408720" cy="48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Маточные трубы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: стро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39640" y="2017800"/>
            <a:ext cx="8415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тенка маточной трубы делится на 4 слоя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ерозную оболочку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непостоянную подсерозную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ышечную (состоящую из наружного и внутреннего продольного пучков и среднего циркулярного)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лизистую, образующую в просвете трубы продольно расположенные склад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4000" y="214200"/>
            <a:ext cx="861984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Яичник (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3х2х1,5см )– парный орган. Располагается в углублении париетальной брюшины, называемом яичниковой ямкой. Форма яичника овоидная, он сплющен спереди назад.</a:t>
            </a:r>
            <a:r>
              <a:rPr b="0" lang="ru-RU" sz="2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79280" y="2017440"/>
            <a:ext cx="4608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редством </a:t>
            </a:r>
            <a:r>
              <a:rPr b="1" i="1" lang="ru-RU" sz="2000" spc="-1" strike="noStrike">
                <a:solidFill>
                  <a:srgbClr val="ff0000"/>
                </a:solidFill>
                <a:latin typeface="Tahoma"/>
              </a:rPr>
              <a:t>собственных связо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яичники прикрепляются к углам матки. С помощью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подвешивающих связо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они фиксируются к боковым стенкам таза. Яичник покрыт зародышевым эпителием, и лишь небольшая его часть располагается между листками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широкой маточной связки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упликатура брюшины, отходящая от заднего листка широкой связки, образует короткую </a:t>
            </a:r>
            <a:r>
              <a:rPr b="0" i="1" lang="ru-RU" sz="2000" spc="-1" strike="noStrike">
                <a:solidFill>
                  <a:srgbClr val="ff0000"/>
                </a:solidFill>
                <a:latin typeface="Tahoma"/>
              </a:rPr>
              <a:t>яичниковую брыжейку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Этот участок яичника называется </a:t>
            </a: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его ворот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>
            <a:lum contrast="6000"/>
          </a:blip>
          <a:srcRect l="-953" t="-5" r="5743" b="0"/>
          <a:stretch/>
        </p:blipFill>
        <p:spPr>
          <a:xfrm>
            <a:off x="4643280" y="1628640"/>
            <a:ext cx="467064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Физиологическое положение матки, труб и яичников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 обеспечивается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одвешивающим, закрепляющим и поддерживающим аппаратами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ahoma"/>
              </a:rPr>
              <a:t>К подвешивающему аппарату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относя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обственные связки яичников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ирокие связки матк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двешивающие связки яичников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круглые  маточные связк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115640" y="-51480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000" y="980640"/>
            <a:ext cx="8491320" cy="551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Широкие маточные связк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представляют собой фронтально расположенную дупликатуру брюшины, соединяющуюся с передней и задней поверхностью матки и направляющуюся к боковым стенкам таза, где она переходит в париетальную брюшину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Часть широкой маточной связки является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брыжейкой маточной трубы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ежду листками широкой связки заложен слой рыхлой клетчатки, разделенный фасциальной пластиной на два отдела: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ерх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и ниж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 развитой артериальной и венозной сетью, а также с проходящим здесь мочеточником. Эта часть широкой связки носит название </a:t>
            </a:r>
            <a:r>
              <a:rPr b="1" i="1" lang="ru-RU" sz="2800" spc="-1" strike="noStrike">
                <a:solidFill>
                  <a:srgbClr val="000000"/>
                </a:solidFill>
                <a:latin typeface="Tahoma"/>
              </a:rPr>
              <a:t>главной, или кардинальной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15640" y="-2973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94920" y="765000"/>
            <a:ext cx="83487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Под передним листком широкой связки от передней поверхности матки по направлению к внутреннему отверстию пахового канала - проходит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углая маточная связ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 Длина ее в среднем 10— 15 см, толщина 3—5 см. Круглые связки проходят через внутренние отверстия паховых каналов, постепенно истончаются и, выходя из пахового канала, полностью разветвляются в подкожной жировой клетчатке. В круглых связках проходи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артерия круглой связки мат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, отходящая от нижней надчревной артер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187280" y="-15444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90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Собственная связ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яич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представляет собой короткий парный, но достаточно плотный фиброзно-гладкомышечный тяж, соединяющий нижний (маточный) конец яичника с маткой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Подвешивающаяся связка яичник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— также парное образование, начинающееся от латеральной части широкой маточной связки в области трубного конца яичника и трубы и переходящее в брюшину боковой стенки таза в области крестцово-позвоночного сочленения, в ней проходят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яичниковые артерия и вена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>
            <a:lum contrast="6000"/>
          </a:blip>
          <a:stretch/>
        </p:blipFill>
        <p:spPr>
          <a:xfrm>
            <a:off x="250920" y="0"/>
            <a:ext cx="8459640" cy="659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Tahoma"/>
              </a:rPr>
              <a:t>Олигоцитемическая гиповолемия</a:t>
            </a: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507520" cy="44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Физиологическая анемия беременных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Hb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до 105-110г/л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32-34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е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t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0,32-0,34л/л    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32-34не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нижение </a:t>
            </a:r>
            <a:r>
              <a:rPr b="0" i="1" lang="ru-RU" sz="3200" spc="-1" strike="noStrike">
                <a:solidFill>
                  <a:srgbClr val="000000"/>
                </a:solidFill>
                <a:latin typeface="Tahoma"/>
              </a:rPr>
              <a:t>вязкости крови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26-28нед, к моменту родов вязкость крови достигает нормального уровня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5056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394920" y="620280"/>
            <a:ext cx="8559720" cy="597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Tahoma"/>
              </a:rPr>
              <a:t>К закрепляющему аппарату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относятся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ардиналь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крестцово-маточны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но-маточ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узырно-лобковые связк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350720" y="-37008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68360" y="765000"/>
            <a:ext cx="848664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ардинальные связ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составляют нижнюю  часть «зоны уплотнения»широкой маточной связки, являющейся наиболее мощной в системе закрепляющего аппарата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Крестцово-маточные связ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образованы преимущественно гладкомышечными и фиброзными волокнами и составляют заднюю часть «зоны уплотнения». От задней поверхности шейки матки, дугообразно охватывая с боков прямую  кишку, они  направляются к париетальному листку тазовой фасции на передней поверхности крестца. Верхняя часть связок приподнимает покрывающую их брюшину, образуя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прямокишечно-маточные складки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1564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68000" y="62064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ahoma"/>
              </a:rPr>
              <a:t>К поддерживающему аппарату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относятся мускулатура тазового дна, представленная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иафрагмой таза,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мочеполовой диафрагмой и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двух поперечно-полосатых мышц (седалищно-пещеристой и луковично-пещеристой)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натомически полость малого таза разделяется на 3 этажа: брюшинный, подбрюшинный и подкожный</a:t>
            </a: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94920" y="2017440"/>
            <a:ext cx="8559720" cy="443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Первый этаж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условно ограничен сверху пограничной линией и снизу тазовой брюшиной. Здесь располагаются верхняя часть мочевого пузыря, большая часть матки, придатки, широкие маточные связки и верхний участок влагалищ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115640" y="-227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68000" y="765000"/>
            <a:ext cx="828036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Брюшинный отдел таза является нижним отделом брюшной полости. Переходя с передней брюшной стенки на мочевой пузырь брюшина образует здесь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оперечную пузырную складку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 далее брюшина переходит на переднюю поверхность матки, создава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узырно-маточное углуб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 месте перехода брюшины с матки на  прямую кишку брюшина формируе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ямокишечно-маточное углубление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две боковые складки, идущие в передне-заднем направлении к крестцу. Они носят название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ямокишечно-маточных складок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содержат пучки мышечно-фиброзных волокон, являющихся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кресцово-маточными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связкам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042920" y="-227520"/>
            <a:ext cx="77932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6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Второй этаж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граничен тазовой брюшиной, а снизу листком тазовой фасции, покрывающим сверху мышцу, поднимающую задний проход. Здесь располагаются внебрюшинные отделы мочевого пузыря и прямой кишки, шейка матки , большая часть влагалища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50560" y="-29916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39640" y="549000"/>
            <a:ext cx="8415360" cy="558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Третий этаж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ограничен сверху тазовой диафрагмой , а снизу – кожными покровами. Здесь находятся конечные отделы моче-половой системы и кишечной трубки. Сюда же относится седалищно-прямокишечная ямка, расположенная сбоку от промежностного отдела прямой кишки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042920" y="-360"/>
            <a:ext cx="779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23640" y="1413000"/>
            <a:ext cx="46688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Внутренние половые органы снабжаются за счет сосудов, отходящих от внутренней подвздошной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артерии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маточная артер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и от аорты (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яичниковая артерия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1">
            <a:lum contrast="6000"/>
          </a:blip>
          <a:srcRect l="0" t="119" r="2910" b="0"/>
          <a:stretch/>
        </p:blipFill>
        <p:spPr>
          <a:xfrm>
            <a:off x="4846680" y="1197000"/>
            <a:ext cx="4297320" cy="52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7793280" cy="62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415360" cy="515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Яичниковая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артерия ответвляется от аорты ниже места отхождения почечной артерии, перекрещивается с тазовым отделом мочеточника, вступает в подвешивающую  связку яичника, подходит к воротам яичника и дает 2 ветви –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яичниковую и трубную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Кровоснабжение.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23640" y="1341360"/>
            <a:ext cx="8631000" cy="518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Маточная артерия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ходит от внутренней подвздошной , подходит к боковой поверхности матки на уровне внутреннего зева, проходит вдоль ребра матки, отдавая мелкие горизонтальные ветви к матке ( дно, трубная, яичниковая ветви). От маточной отходит вниз влагалищная артерия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 внутренней половой артерии отходят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промежностная артерия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задняя артерия половых губ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 Продолжением  внутренней половой артерии явл.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артерия клитор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Артериальное давление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 снижается во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на 5-15мм рт ст.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max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в 28нед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 АД соответствует уровню, отмечаемому до беременност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Д в положении на спине соотвествует норме, а в положении – лежа на боку  ниже нормы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99"/>
                </a:solidFill>
                <a:latin typeface="Tahoma"/>
              </a:rPr>
              <a:t>Венозный отток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94920" y="980640"/>
            <a:ext cx="855972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Различают три основных пути </a:t>
            </a:r>
            <a:r>
              <a:rPr b="0" i="1" lang="ru-RU" sz="2800" spc="-1" strike="noStrike">
                <a:solidFill>
                  <a:srgbClr val="000000"/>
                </a:solidFill>
                <a:latin typeface="Tahoma"/>
              </a:rPr>
              <a:t>венозного оттока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 матки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Верх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– в яичниковую вену, которая направляется в забрюшинное пространство и впадает в почечную вену слева, справа – в нижнюю полую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ены </a:t>
            </a: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среднего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тдела образуют маточную вену, впадающую во внутреннюю подвздошную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ahoma"/>
              </a:rPr>
              <a:t>Нижний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отдел – собирает венозную кровь от шейки матки и влагалища (влагалищно-маточное сплетение). Это сплетение , сливаясь с венами мочевого пузыря, образует мощное пузырно-влагалищное сплетение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4000" y="214200"/>
            <a:ext cx="8259480" cy="76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ahoma"/>
              </a:rPr>
              <a:t>Иннервация матк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94920" y="1125000"/>
            <a:ext cx="855972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Матка снабжена нервными волокнами, отходящими от тазового сплетения, образованного нервными волокнами поясничного отдела симпатического ствола, нижнего подчревного сплетения и ветвями крестцового сплет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847584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Tahoma"/>
              </a:rPr>
              <a:t>Вегетативная иннервация.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6310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Адренергическая иннервац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иатор — норадреналин) преобладает в продольных пучках среднего (сосудистого) слоя миометрия, а также вокруг сосудов миометрия. Различают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два типа адренорецепторов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мембране ГМК. альфа-адренорецепторы, ответственные за сокращение ГМК, располагаются преимущественно на мембранах продольно расположенных пучков; бетта-адренорецепторы, активация которых приводит к расслаблению ГМК, находятся на мембранах циркулярно расположенных пучков ГМК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Холинергическая иннервац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(медиатор — ацетилхолин) преобладает в циркулярно и спиралеобразно расположенных ГМК нижнего сегмента и шейки матки, в меньшей степени — в подсосудистом слое, прилегающем к эндометрию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50560" y="-154440"/>
            <a:ext cx="779292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94920" y="692280"/>
            <a:ext cx="8559720" cy="59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лотность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льфа- адренорецепторов зависит от содержания эстрогенов и простагландинов,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бетта-адренорецепторов — от концентрации прогестерона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субплацентарной зоне и внутреннем слое миометрия, непосредственно прилегающих к полости матки,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рог возбудимости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ше, чем в других слоях; поэтому мышцы внутреннего слоя сокращаются слабее. Это предохраняет плод от чрезмерного сдавления, предотвращает нарушение маточно-плацентарного кровотока и преждевременную отслойку плаценты от стенки ма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Попеременное возбуждение симпатических и парасимпатических волокон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ызывает сокращение продольно расположенных мышечных пучков матки при одновременном активном расслаблении циркулярных и спиралеобразных, что приводит к постепенному раскрытию шейки матки и продвижению плода по родовому каналу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Общее периферическое сопротивление</a:t>
            </a: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С становится наиболее низким (снижается на 28,9%)  в 28- 32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последующие сроки беременности ОПС  повышается, но остается  на 10,4% ниже, чем у небеременны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начительное снижение ОПСС на 10,4% связывают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 образованием маточного круга кровообращения с низким периферическим сопротивлением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0000"/>
                </a:solidFill>
                <a:latin typeface="Tahoma"/>
              </a:rPr>
              <a:t>с сосудорасширяющим действием эстрогенов и прогестерон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99"/>
                </a:solidFill>
                <a:latin typeface="Tahoma"/>
              </a:rPr>
              <a:t>Венозное давление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вышение ЦВД в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II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триместре в среднем 8 см вд ст (4-12), у небеременных – 3,6 см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ление в венах верхних конечностей не изменяетс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авление в венах нижних конечностей увеличивается  ( 7-10 см вд ст 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ahoma"/>
              </a:rPr>
              <a:t>Синдром сдавления  нижней полой вены(постуральный гипотонический синдром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435880" cy="485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 7—14% случаев после 30—32 нед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индром сдавления нижней полой вены или «гипотензивный синдром на спине».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овождается падением систолического давления на 25—30 мм рт. ст. и более. Через 2—3 мин появляются симптомы сердечно-сосудистой недостаточности, иногда с потерей созна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омощь: беременную необходимо немедленно перевести в вертикальное положение или повернуть на бок, либо сместить матку в сторону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Затяжной синдром может привести к отслойке нормально прикрепленной плаценты, отеку легких во время кесарева сечения. Отек легких возникает вслед за извлечением плода, что объясняется быстрым увеличением венозного притока к сердцу после устранения сдавления нижней полой вены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7T09:00:49Z</dcterms:created>
  <dc:creator>Iggy</dc:creator>
  <dc:description/>
  <dc:language>en-US</dc:language>
  <cp:lastModifiedBy>Iggy</cp:lastModifiedBy>
  <dcterms:modified xsi:type="dcterms:W3CDTF">2007-01-24T16:54:15Z</dcterms:modified>
  <cp:revision>91</cp:revision>
  <dc:subject/>
  <dc:title>Адаптационные изменения при физиологической беременности</dc:title>
</cp:coreProperties>
</file>